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ED1C-6DD0-404E-AC44-B0108862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C216-4048-49D5-B991-3F85CD56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3160-4379-4074-8FAB-D30742A6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E50-0B41-4D39-B513-D174C253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1B2B-4C4A-485C-BC77-93AA75C3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43DE-3552-4F29-84FD-F6E8D3A2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0A0C-1816-445A-A5B3-956D576E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9C5E-CB3D-47BF-8A31-80ED33BE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ABBC-97D2-4EFA-9564-8347E13E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7D30-9145-4DE4-A19A-F6A3A81B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9E68-5C00-4D13-995F-74A1D2A5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F55-737B-4360-8EAF-61ED5D38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903F-5AC1-4FF3-ACE9-FEC7AAFF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64E4-35E1-42CB-8154-007D017A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34E4-3CBA-4883-8E43-172572C7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F5E9-809C-436E-8B06-6D403C19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C67D-85FA-4353-A35D-A28EBE5A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40CC8-FD5A-48E7-A806-CF9934A0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94189-2BC3-4750-9993-3E84B2AA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5AD68-0AD0-4591-90E7-D8E5C2BC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260CA-2AA6-4392-96DB-065CC8D2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FF96B-6E58-435B-B227-F5B6BAE3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435A-931B-41FB-A1C9-A2432B15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2F5C1-3DA2-42D6-A5A7-B034D057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3AE77-A813-4280-BED4-D88D72C0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DFAA2-EBB4-46E2-B443-F3181F42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89CDB-E6B2-49D3-A780-EFC6101C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5D4E70-5857-42B9-9ACB-41BF8769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B33CB-9FD0-49E0-91C1-4FB53BA6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F073B-C446-44F5-8C23-A61AE61B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5E64C-7FE0-47EF-9C6A-7C5E8828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E74C8-67D7-48D5-90FD-50C54E78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1A41B-5867-4258-BBBA-693F45FC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9B2B-27FE-4FE0-962A-E2C5B7C2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E80C9-50DF-421B-8119-6D5AD6C9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CE07A-4724-4143-AABA-0FAD0EB4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1F7B2-DAA3-4BFB-8074-7E34C917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570B6-B3A1-4358-B9C3-F70B172E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5572B-6A5A-4DE3-85A2-9C27CA66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7452C-8160-4190-B3ED-44B0B0C5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C64AE-8E49-4EEF-830E-83B7E50C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BB115-5D4B-425D-A440-9E358359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43F36-CF36-469F-9B8C-25935A74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786C68-476A-4C99-A7C6-68FBC94D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21B-2142-47D6-A6A5-84FEE9C4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8D1CAD-C9B1-4904-A4AD-B2C0906A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EEBF8-C881-40C7-BA32-B5BB29C4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EFE9AE-72D8-48CE-90F7-5E38D1DA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C74024-29DC-4D6F-8975-67642369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7B10B-E25D-420B-B86D-778424A0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465D6-23C9-48EB-8555-704DA272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A2CBDF-0DC6-46C9-8CDE-DF1BC0E2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DD737F-1FC9-4B01-BB4F-0B1162C8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071147-C222-41C9-B3F2-2B97E651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F5F4F1-973F-4E21-BAFC-78A4C734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D91-9140-4280-9AF4-47B96371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98607-67A3-4D86-A960-7F86F370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66B6DB-0BCB-45CD-9A8B-7CBBFF8F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371CDF-4AFC-48C4-AB1B-AB416CD3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40C369-6442-40B3-9D99-0E091EA2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91E974-3A80-4EBA-9E9F-7583D0F6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5770B9-1B54-42A4-A1C6-0A5CE7AB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43687C-3D60-4681-8A28-109C2682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9D02D1-A3B3-40D6-8121-981BAF0A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826E6-7E70-4A72-BEAE-31090327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E39618-BF48-4D68-B220-0451A24C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F88C-2CD2-4726-B48B-F1F0CAEB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DF741D-9198-4F0E-80DD-A42F5F3A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65B925-B437-4844-A284-6537FD93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FB5CD9-8406-4833-AA76-BF1586D7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41D3BC-1A44-4BE4-9289-BE1DF660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6A1C4E-56C0-42EF-A5F8-2C3DFF0E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61274A-8C50-436F-A40E-C7E9672F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D98BB5-EBC3-4E49-92C7-80C56749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49835D-F57F-4442-B259-DC540667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B4932F-62CB-4495-83E3-15876C13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65B50D-318C-4D62-A099-E4024C17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077-6D47-46C3-9DD0-A479C7A6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EDA7A-FB43-42B1-8541-ECCEC3D5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EE9A79-E02E-4C5F-BA0C-6AD7552A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5DF077-EEAE-4766-BB34-57F43B65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92C644-E948-43C7-8982-AEBB0E8C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D6E676-3E38-476C-8731-7B14C90E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E7D-0F97-450F-9D9C-7DB494F9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3120-D4D7-44D7-B598-9D66D5E45E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矩形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矩形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矩形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直接连接符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直接连接符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直接连接符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直接连接符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直接连接符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直接连接符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矩形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椭圆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椭圆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椭圆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椭圆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椭圆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1B1D-A5DA-4A22-A518-777CF7F2D3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CEE6-C4B1-450D-8792-BE49BC311B4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矩形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矩形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直接连接符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直接连接符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直接连接符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直接连接符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直接连接符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矩形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椭圆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椭圆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椭圆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椭圆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椭圆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直接连接符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ED0A-B92A-4564-A384-F4A5C91639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AE1B-CE4D-41B9-82F6-8A241B774A2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直接连接符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直接连接符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直接连接符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直接连接符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矩形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直接连接符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椭圆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8454-3B83-4636-8F70-691CB8E33A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直接连接符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椭圆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直接连接符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矩形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直接连接符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直接连接符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直接连接符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624D-0688-4BCB-A4D3-765DCCDBCB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6043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华文行楷"/>
                <a:ea typeface="华文行楷"/>
              </a:rPr>
              <a:t>         </a:t>
            </a:r>
            <a:r>
              <a:rPr b="1" lang="zh-CN" sz="4900" spc="-1" strike="noStrike">
                <a:solidFill>
                  <a:srgbClr val="0070c0"/>
                </a:solidFill>
                <a:latin typeface="微软雅黑"/>
                <a:ea typeface="微软雅黑"/>
              </a:rPr>
              <a:t>第七章   </a:t>
            </a:r>
            <a:br>
              <a:rPr sz="4900"/>
            </a:br>
            <a:r>
              <a:rPr b="1" lang="zh-CN" sz="49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  成本计算方法概述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5292720" y="4724280"/>
            <a:ext cx="4572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             </a:t>
            </a:r>
            <a:r>
              <a:rPr b="1" lang="zh-CN" sz="4800" spc="-1" strike="noStrike">
                <a:solidFill>
                  <a:srgbClr val="6600cc"/>
                </a:solidFill>
                <a:latin typeface="楷体"/>
                <a:ea typeface="楷体"/>
              </a:rPr>
              <a:t>李会青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838080" y="6206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装配式多步骤生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如为大量、大批生产，成本计算方法与连续式多步骤生产基本相同；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如为单件、小批生产，以产品的批别或件别作为成本计算对象，又由于其产量较小且基本上是同时完工，成本计算只能在产品完工后才能进行，其成本计算期与生产周期一致，也就不存在生产费用在完工产品和月末在产品之间分配的问题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0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微软雅黑"/>
                <a:ea typeface="微软雅黑"/>
              </a:rPr>
              <a:t>三种不同的成本计算对象</a:t>
            </a:r>
            <a:r>
              <a:rPr b="0" lang="zh-CN" sz="3200" spc="-1" strike="noStrike">
                <a:solidFill>
                  <a:srgbClr val="6600cc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980640"/>
            <a:ext cx="867564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在大量大批单步骤生产，或大量大批多步骤生产情况下，成本管理上不要求按生产步骤计算成本时，成本计算对象就是全厂某月份生产的某种产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产品品种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在大量大批、多步骤生产情况下，成本管理上要求按生产步骤计算成本时，成本计算对象为各步骤某月份生产的半成品或产成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产品的生产步骤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在单件小批生产情况下，无论单步骤生产还是多步骤生产，成本计算对象通常是某一批或某一件产成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产品的批别或件别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5616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三 、成本计算方法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38102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基本方法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539640" y="1700280"/>
          <a:ext cx="8353440" cy="4821120"/>
        </p:xfrm>
        <a:graphic>
          <a:graphicData uri="http://schemas.openxmlformats.org/drawingml/2006/table">
            <a:tbl>
              <a:tblPr/>
              <a:tblGrid>
                <a:gridCol w="1393920"/>
                <a:gridCol w="1390680"/>
                <a:gridCol w="1393920"/>
                <a:gridCol w="1390680"/>
                <a:gridCol w="1393560"/>
                <a:gridCol w="1390680"/>
              </a:tblGrid>
              <a:tr h="3988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成本计算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成本计算对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计算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期末在产品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适用范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生产特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成本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品种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产品品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按月计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与会计报告期一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单步骤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不计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大量大批单步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不要求分步骤计算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多步骤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计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大量大批多步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分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产品批次或件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不定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与生产周期一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一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不计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单件小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不要求分步骤计算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分步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每种产品及各步骤半成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按月计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与会计报告期一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计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大量大批多步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要求分步骤计算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Rectangle 5"/>
          <p:cNvSpPr/>
          <p:nvPr/>
        </p:nvSpPr>
        <p:spPr>
          <a:xfrm>
            <a:off x="1143000" y="41148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68360" y="333360"/>
            <a:ext cx="8136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entury Schoolbook"/>
              </a:rPr>
              <a:t>     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辅助方法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不能独立运用，必须与基本方法结合使用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分类法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：以产品类别作为成本计算对象，先按大类归集费用，再在类内分配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适用于：品种规格型号繁多，同类产品结构、用料和生产工艺基本相同的企业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定额法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： 定额成本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±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脱离定额差异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±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定额变动差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适用于：定额制度健全、定额基础好、准确稳定、产品基本定型的企业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简化成本计算工作，加强成本管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39280" y="692280"/>
            <a:ext cx="79930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Century Schoolbook"/>
              </a:rPr>
              <a:t>     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前沿方法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Century Schoolbook"/>
              </a:rPr>
              <a:t>      </a:t>
            </a:r>
            <a:r>
              <a:rPr b="1" lang="en-US" sz="2600" spc="-1" strike="noStrike">
                <a:solidFill>
                  <a:srgbClr val="ff0000"/>
                </a:solidFill>
                <a:latin typeface="Century Schoolbook"/>
              </a:rPr>
              <a:t>1.</a:t>
            </a:r>
            <a:r>
              <a:rPr b="1" lang="zh-CN" sz="2600" spc="-1" strike="noStrike">
                <a:solidFill>
                  <a:srgbClr val="ff0000"/>
                </a:solidFill>
                <a:latin typeface="Century Schoolbook"/>
              </a:rPr>
              <a:t>变动成本法</a:t>
            </a: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：产品成本只计算变动成本，固定成本计入当期损益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用于短期生产经营决策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2600" spc="-1" strike="noStrike">
                <a:solidFill>
                  <a:srgbClr val="ff0000"/>
                </a:solidFill>
                <a:latin typeface="Century Schoolbook"/>
              </a:rPr>
              <a:t>2.</a:t>
            </a:r>
            <a:r>
              <a:rPr b="1" lang="zh-CN" sz="2600" spc="-1" strike="noStrike">
                <a:solidFill>
                  <a:srgbClr val="ff0000"/>
                </a:solidFill>
                <a:latin typeface="Century Schoolbook"/>
              </a:rPr>
              <a:t>标准成本法</a:t>
            </a: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：产品成本只计算标准成本，标准成本与实际成本的差异计入当期损益。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用于内部成本控制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2600" spc="-1" strike="noStrike">
                <a:solidFill>
                  <a:srgbClr val="ff0000"/>
                </a:solidFill>
                <a:latin typeface="Century Schoolbook"/>
              </a:rPr>
              <a:t>3.</a:t>
            </a:r>
            <a:r>
              <a:rPr b="1" lang="zh-CN" sz="2600" spc="-1" strike="noStrike">
                <a:solidFill>
                  <a:srgbClr val="ff0000"/>
                </a:solidFill>
                <a:latin typeface="Century Schoolbook"/>
              </a:rPr>
              <a:t>作业成本法：</a:t>
            </a: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将生产过程分为连续的作业，核算每一个作业中心的成本和利润。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4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4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4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62514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           </a:t>
            </a:r>
            <a:r>
              <a:rPr b="1" lang="en-US" sz="4400" spc="-1" strike="noStrike">
                <a:solidFill>
                  <a:srgbClr val="c00000"/>
                </a:solidFill>
                <a:latin typeface="微软雅黑"/>
                <a:ea typeface="微软雅黑"/>
              </a:rPr>
              <a:t>[</a:t>
            </a:r>
            <a:r>
              <a:rPr b="1" lang="zh-CN" sz="4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章重点</a:t>
            </a:r>
            <a:r>
              <a:rPr b="1" lang="en-US" sz="4400" spc="-1" strike="noStrike">
                <a:solidFill>
                  <a:srgbClr val="c00000"/>
                </a:solidFill>
                <a:latin typeface="微软雅黑"/>
                <a:ea typeface="微软雅黑"/>
              </a:rPr>
              <a:t>]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920" y="1989000"/>
            <a:ext cx="7058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6600cc"/>
                </a:solidFill>
                <a:latin typeface="微软雅黑"/>
                <a:ea typeface="微软雅黑"/>
              </a:rPr>
              <a:t>制造业的生产特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6600cc"/>
                </a:solidFill>
                <a:latin typeface="微软雅黑"/>
                <a:ea typeface="微软雅黑"/>
              </a:rPr>
              <a:t>三种基本成本计算方法的特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34544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第一节     </a:t>
            </a:r>
            <a:r>
              <a:rPr b="1" lang="zh-CN" sz="3200" spc="-1" strike="noStrike">
                <a:solidFill>
                  <a:srgbClr val="6600cc"/>
                </a:solidFill>
                <a:latin typeface="微软雅黑"/>
                <a:ea typeface="微软雅黑"/>
              </a:rPr>
              <a:t>生产特点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和</a:t>
            </a:r>
            <a:r>
              <a:rPr b="1" lang="zh-CN" sz="3200" spc="-1" strike="noStrike">
                <a:solidFill>
                  <a:srgbClr val="6600cc"/>
                </a:solidFill>
                <a:latin typeface="微软雅黑"/>
                <a:ea typeface="微软雅黑"/>
              </a:rPr>
              <a:t>管理要求</a:t>
            </a:r>
            <a:br>
              <a:rPr sz="3200"/>
            </a:b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            对成本计算方法的影响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8000" y="160128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制造业的生产特点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生产组织和生产工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图示 3" descr=""/>
          <p:cNvPicPr/>
          <p:nvPr/>
        </p:nvPicPr>
        <p:blipFill>
          <a:blip r:embed="rId1"/>
          <a:stretch/>
        </p:blipFill>
        <p:spPr>
          <a:xfrm>
            <a:off x="749160" y="2530440"/>
            <a:ext cx="785196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-360" y="333000"/>
            <a:ext cx="8712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）大量生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断地重复生产品种相同的产品。例如冶金、采掘、纺织、面粉、化肥、造纸、酿酒等的生产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）成批生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照预定的产品批别和数量进行的生产。分为大批生产和小批生产。例如服装、机床等的生产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）单件生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订货单位的要求，生产个别的、性质特殊的产品的生产。例如重型机器、船舶、专用设备等以及新产品的试制等。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图示 3" descr=""/>
          <p:cNvPicPr/>
          <p:nvPr/>
        </p:nvPicPr>
        <p:blipFill>
          <a:blip r:embed="rId1"/>
          <a:stretch/>
        </p:blipFill>
        <p:spPr>
          <a:xfrm>
            <a:off x="463680" y="384120"/>
            <a:ext cx="8076960" cy="2414520"/>
          </a:xfrm>
          <a:prstGeom prst="rect">
            <a:avLst/>
          </a:prstGeom>
          <a:ln w="0">
            <a:noFill/>
          </a:ln>
        </p:spPr>
      </p:pic>
      <p:sp>
        <p:nvSpPr>
          <p:cNvPr id="358" name="矩形 4"/>
          <p:cNvSpPr/>
          <p:nvPr/>
        </p:nvSpPr>
        <p:spPr>
          <a:xfrm>
            <a:off x="611280" y="299736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）单步骤生产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75f6d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单生产，生产工艺过程不能间断、或者是不便于分散在几个不同地点进行的生产，例如发电、采掘、铸件等工业生产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0" y="476280"/>
            <a:ext cx="8748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Century Schoolbook"/>
              </a:rPr>
              <a:t>      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）多步骤生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75f6d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杂生产，生产工艺过程可以间断、分散在不同地点、分别在不同时间进行的生产步骤所组成的生产，可以由一个企业的各个车间进行，也可以由几个企业协作进行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按其产品的加工方式，又可分为连续式生产和装配式生产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。连续式生产如纺织、冶金、造纸、服装等。装配式例如机械、车辆、电子、仪表等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工业企业的生产类型如图所示</a:t>
            </a:r>
            <a:r>
              <a:rPr b="1" lang="zh-CN" sz="3200" spc="-1" strike="noStrike">
                <a:solidFill>
                  <a:srgbClr val="575f6d"/>
                </a:solidFill>
                <a:latin typeface="Century Schoolbook"/>
              </a:rPr>
              <a:t>：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62" name="Group 6"/>
          <p:cNvGrpSpPr/>
          <p:nvPr/>
        </p:nvGrpSpPr>
        <p:grpSpPr>
          <a:xfrm>
            <a:off x="431640" y="1484280"/>
            <a:ext cx="15373440" cy="3818880"/>
            <a:chOff x="431640" y="1484280"/>
            <a:chExt cx="15373440" cy="3818880"/>
          </a:xfrm>
        </p:grpSpPr>
        <p:graphicFrame>
          <p:nvGraphicFramePr>
            <p:cNvPr id="363" name="Object 4"/>
            <p:cNvGraphicFramePr/>
            <p:nvPr/>
          </p:nvGraphicFramePr>
          <p:xfrm>
            <a:off x="431640" y="1484280"/>
            <a:ext cx="15373440" cy="37990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6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1640" y="1484280"/>
                      <a:ext cx="15373440" cy="379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5" name="Text Box 5"/>
            <p:cNvSpPr/>
            <p:nvPr/>
          </p:nvSpPr>
          <p:spPr>
            <a:xfrm>
              <a:off x="8292960" y="48434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产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692280"/>
            <a:ext cx="857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二、生产特点和管理要求对成本计算方法的影响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23640" y="126792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Century Schoolbook"/>
              </a:rPr>
              <a:t>         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成本计算对象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成本计算的对象，即在成本计算过程中，为归集和分配生产费用而确定的承受对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成本、费用的承担者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成本计算对象一般由以下几个要素构成：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）生产费用归属的实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何种产品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成本计算的主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成本计算的空间范围。包括全厂（产品生产的整个过程）、车间（产品生产的步骤）、（产品生产的批次）等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）成本计算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成本计算的时间段落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）生产费用在完工产品与在产品之间的分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00cc"/>
                </a:solidFill>
                <a:latin typeface="黑体"/>
                <a:ea typeface="黑体"/>
              </a:rPr>
              <a:t>2.</a:t>
            </a:r>
            <a:r>
              <a:rPr b="1" lang="zh-CN" sz="2900" spc="-1" strike="noStrike">
                <a:solidFill>
                  <a:srgbClr val="6600cc"/>
                </a:solidFill>
                <a:latin typeface="黑体"/>
                <a:ea typeface="黑体"/>
              </a:rPr>
              <a:t>生产组织特点和管理要求对产品成本计算的影响</a:t>
            </a: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50560" y="1267920"/>
            <a:ext cx="8497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）大量生产：大量生产同一种产品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以产品的品种作为成本计算对象；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）大批生产：产量较大，品种相对稳定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以产品的品种作为成本计算对象；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）小批生产：批量较小且同批产品大多同时完工，因此可按产品的批别作为成本计算对象；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）单件生产：生产按件组织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按产品的批别（或件别）计算产品成本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6600cc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生产工艺和管理要求对成本计算的影响</a:t>
            </a:r>
            <a:r>
              <a:rPr b="0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1052640"/>
            <a:ext cx="88200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单步骤生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以产品的品种作为成本计算对象；以会计报告期作为成本计算期，每月月末定期计算产品成本；一般没有月末在产品，因此不需计算月末在产品成本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连续式多步骤生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以产品品种及其生产步骤作为产品成本计算对象；在每月月末定期计算产品成本；一般各生产步骤在月末都会有一定的在产品，要求在月末将生产费用在完工产品和月末在产品之间进行分配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01:11:45Z</dcterms:created>
  <dc:creator>番茄花园</dc:creator>
  <dc:description/>
  <dc:language>en-US</dc:language>
  <cp:lastModifiedBy>Administrator</cp:lastModifiedBy>
  <dcterms:modified xsi:type="dcterms:W3CDTF">2022-05-11T01:56:18Z</dcterms:modified>
  <cp:revision>49</cp:revision>
  <dc:subject/>
  <dc:title>第七章   成本计算方法概述</dc:title>
</cp:coreProperties>
</file>